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17.png" ContentType="image/png"/>
  <Override PartName="/ppt/media/image32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type.wav" ContentType="audio/x-wav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9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6472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9B4-EB43-4CCC-B182-6E7BF41B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8683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400" y="4161600"/>
            <a:ext cx="8683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D60-57A4-4C0F-A597-F2E20C31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360" y="167904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2400" y="416160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360" y="416160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A2F-4D69-4BBA-9C6C-C518A244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27957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679040"/>
            <a:ext cx="27957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4360" y="1679040"/>
            <a:ext cx="27957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400" y="4161600"/>
            <a:ext cx="27957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4161600"/>
            <a:ext cx="27957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4360" y="4161600"/>
            <a:ext cx="27957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F05-860A-455C-9D2E-12BEA61C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2400" y="1679040"/>
            <a:ext cx="86835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71C-353C-41B4-9F14-793FE9C0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8683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4B5-94D5-4211-AE2D-FDC46D14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4237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360" y="1679040"/>
            <a:ext cx="4237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403-33F1-4597-92A1-8AD87D46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811-B857-44CE-BB51-C1B52FD7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2400" y="288720"/>
            <a:ext cx="868356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7BC-3151-4B0F-989E-9C7F3FF2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360" y="1679040"/>
            <a:ext cx="4237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2400" y="416160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CE1-3D50-445E-BB1B-28407507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4237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360" y="167904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360" y="416160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6A3-A0FD-4C16-BCDB-07C9425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360" y="1679040"/>
            <a:ext cx="4237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400" y="4161600"/>
            <a:ext cx="8683560" cy="226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29C-55C4-4E83-928E-D0D5219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400" y="1679040"/>
            <a:ext cx="8683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-360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3016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3480" indent="-2430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84440" indent="-2397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2400" y="6557760"/>
            <a:ext cx="2251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97240" y="6557760"/>
            <a:ext cx="305424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14880" y="6557760"/>
            <a:ext cx="225108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E15D77D8-4005-46AB-A57E-3DAC856C32AF}" type="slidenum">
              <a:rPr b="0" lang="zh-CN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baike.baidu.com/view/3530749.htm" TargetMode="External"/><Relationship Id="rId3" Type="http://schemas.openxmlformats.org/officeDocument/2006/relationships/hyperlink" Target="http://baike.baidu.com/view/163004.htm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baike.baidu.com/view/8581.htm" TargetMode="Externa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baike.baidu.com/view/3530749.htm" TargetMode="External"/><Relationship Id="rId2" Type="http://schemas.openxmlformats.org/officeDocument/2006/relationships/hyperlink" Target="http://baike.baidu.com/view/163004.htm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baike.baidu.com/view/7427.htm" TargetMode="External"/><Relationship Id="rId5" Type="http://schemas.openxmlformats.org/officeDocument/2006/relationships/hyperlink" Target="http://baike.baidu.com/view/24297.htm" TargetMode="External"/><Relationship Id="rId6" Type="http://schemas.openxmlformats.org/officeDocument/2006/relationships/hyperlink" Target="http://baike.baidu.com/view/109019.htm" TargetMode="External"/><Relationship Id="rId7" Type="http://schemas.openxmlformats.org/officeDocument/2006/relationships/hyperlink" Target="http://baike.baidu.com/view/553877.htm" TargetMode="External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4560" y="1282680"/>
            <a:ext cx="124452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7160" bIns="47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00160" y="1181160"/>
            <a:ext cx="7446960" cy="40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诗四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3208320" y="5376960"/>
            <a:ext cx="193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3024360" cy="5184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4400" y="287280"/>
            <a:ext cx="7294320" cy="12002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晨兴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理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荒秽，带月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荷锄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6000" y="576360"/>
            <a:ext cx="18763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赏析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1" name=""/>
          <p:cNvSpPr/>
          <p:nvPr/>
        </p:nvSpPr>
        <p:spPr>
          <a:xfrm>
            <a:off x="2665440" y="1871640"/>
            <a:ext cx="69832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黑体"/>
                <a:ea typeface="黑体"/>
              </a:rPr>
              <a:t>  “</a:t>
            </a:r>
            <a:r>
              <a:rPr b="1" lang="zh-CN" sz="3400" spc="-1" strike="noStrike">
                <a:solidFill>
                  <a:srgbClr val="0000cc"/>
                </a:solidFill>
                <a:latin typeface="黑体"/>
                <a:ea typeface="黑体"/>
              </a:rPr>
              <a:t>理”字“荷”字用的生动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cc"/>
                </a:solidFill>
                <a:latin typeface="黑体"/>
                <a:ea typeface="黑体"/>
              </a:rPr>
              <a:t>“理”是整理，“荷”是扛着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400" spc="-1" strike="noStrike">
                <a:solidFill>
                  <a:srgbClr val="0000cc"/>
                </a:solidFill>
                <a:latin typeface="黑体"/>
                <a:ea typeface="黑体"/>
              </a:rPr>
              <a:t>将诗人劳动的情态描绘的形象传神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400" spc="-1" strike="noStrike">
                <a:solidFill>
                  <a:srgbClr val="0000cc"/>
                </a:solidFill>
                <a:latin typeface="黑体"/>
                <a:ea typeface="黑体"/>
              </a:rPr>
              <a:t>洋溢着诗人心情的愉快和归隐的自豪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84720" y="431640"/>
            <a:ext cx="5979960" cy="6553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60360" y="287280"/>
            <a:ext cx="2521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 fontScale="94000"/>
          </a:bodyPr>
          <a:p>
            <a:pPr marL="338400" indent="-338400">
              <a:spcBef>
                <a:spcPts val="2324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zh-CN" sz="9300" spc="-1" strike="noStrike">
                <a:solidFill>
                  <a:srgbClr val="333399"/>
                </a:solidFill>
                <a:latin typeface="Arial"/>
                <a:ea typeface="华文新魏"/>
              </a:rPr>
              <a:t>使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  <a:p>
            <a:pPr marL="338400" indent="-338400">
              <a:spcBef>
                <a:spcPts val="2324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zh-CN" sz="9300" spc="-1" strike="noStrike">
                <a:solidFill>
                  <a:srgbClr val="333399"/>
                </a:solidFill>
                <a:latin typeface="Arial"/>
                <a:ea typeface="华文新魏"/>
              </a:rPr>
              <a:t>至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  <a:p>
            <a:pPr marL="338400" indent="-338400">
              <a:spcBef>
                <a:spcPts val="2324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zh-CN" sz="9300" spc="-1" strike="noStrike">
                <a:solidFill>
                  <a:srgbClr val="333399"/>
                </a:solidFill>
                <a:latin typeface="Arial"/>
                <a:ea typeface="华文新魏"/>
              </a:rPr>
              <a:t>塞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  <a:p>
            <a:pPr marL="338400" indent="-338400">
              <a:spcBef>
                <a:spcPts val="2324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i="1" lang="zh-CN" sz="9300" spc="-1" strike="noStrike">
                <a:solidFill>
                  <a:srgbClr val="333399"/>
                </a:solidFill>
                <a:latin typeface="Arial"/>
                <a:ea typeface="华文新魏"/>
              </a:rPr>
              <a:t>上</a:t>
            </a:r>
            <a:endParaRPr b="0" lang="en-US" sz="9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60720" y="2664000"/>
            <a:ext cx="1224000" cy="32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唐 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王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维</a:t>
            </a:r>
            <a:endParaRPr b="1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008000"/>
            <a:ext cx="5997600" cy="5927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(701—761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，字摩诘，太原祁人（今山西祁县）。他一生写了大量的山水田园诗，他的画画的也好，所以苏轼称赞他的诗画是“</a:t>
            </a:r>
            <a:r>
              <a:rPr b="1" lang="zh-CN" sz="38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诗中有画，画中有诗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王维与孟浩然齐名，并称“王孟”。著有《王右丞集》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9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11760" y="863640"/>
            <a:ext cx="3936960" cy="6048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16000" y="217440"/>
            <a:ext cx="288108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王维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31640" y="2879640"/>
            <a:ext cx="7490160" cy="3456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华文新魏"/>
              </a:rPr>
              <a:t>单车欲问边，属国过居延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华文新魏"/>
              </a:rPr>
              <a:t>征蓬出汉塞，归雁入胡天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华文新魏"/>
              </a:rPr>
              <a:t>大漠孤烟直，长河落日圆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华文新魏"/>
              </a:rPr>
              <a:t>萧关逢候骑，都护在燕然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2874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6360" y="287280"/>
            <a:ext cx="6014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7280" y="431640"/>
            <a:ext cx="851076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spcBef>
                <a:spcPts val="11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车欲问边，属国过居延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6360" y="1582560"/>
            <a:ext cx="62751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cc0066"/>
                </a:solidFill>
                <a:latin typeface="Arial"/>
                <a:ea typeface="华文新魏"/>
              </a:rPr>
              <a:t>我轻车简从，要前往边境慰问将士，一直要到远在西北边塞的居延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333399"/>
                </a:solidFill>
                <a:latin typeface="Arial"/>
                <a:ea typeface="华文新魏"/>
              </a:rPr>
              <a:t>(</a:t>
            </a:r>
            <a:r>
              <a:rPr b="1" lang="zh-CN" sz="4600" spc="-1" strike="noStrike">
                <a:solidFill>
                  <a:srgbClr val="333399"/>
                </a:solidFill>
                <a:latin typeface="Arial"/>
                <a:ea typeface="华文新魏"/>
              </a:rPr>
              <a:t>写自己进入边塞</a:t>
            </a:r>
            <a:r>
              <a:rPr b="1" lang="zh-CN" sz="4600" spc="-1" strike="noStrike">
                <a:solidFill>
                  <a:srgbClr val="333399"/>
                </a:solidFill>
                <a:latin typeface="Arial"/>
                <a:ea typeface="华文新魏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88360" y="217440"/>
            <a:ext cx="21603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5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首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772320" y="1533600"/>
            <a:ext cx="28764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83760" cy="2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6900" spc="-1" strike="noStrike">
                <a:solidFill>
                  <a:srgbClr val="0000cc"/>
                </a:solidFill>
                <a:latin typeface="Arial"/>
                <a:ea typeface="华文新魏"/>
              </a:rPr>
              <a:t>                            </a:t>
            </a:r>
            <a:r>
              <a:rPr b="0" lang="zh-CN" sz="6900" spc="-1" strike="noStrike">
                <a:solidFill>
                  <a:srgbClr val="0000cc"/>
                </a:solidFill>
                <a:latin typeface="Arial"/>
                <a:ea typeface="华文新魏"/>
              </a:rPr>
              <a:t>颔联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蓬出汉塞，归雁入胡天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5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人以“蓬”、“雁”自比，说自己像蓬草一样随风而去，又像“归雁”一样进入胡天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0360" y="4680000"/>
            <a:ext cx="9288360" cy="2521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7280" y="3384720"/>
            <a:ext cx="9145800" cy="613080"/>
          </a:xfrm>
          <a:prstGeom prst="rect">
            <a:avLst/>
          </a:prstGeom>
          <a:solidFill>
            <a:srgbClr val="ffff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既言事，又写景，景中传达出内心幽微难言的孤独、郁愤之情。        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5329080" cy="5040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2158920"/>
          </a:xfrm>
          <a:prstGeom prst="rect">
            <a:avLst/>
          </a:prstGeom>
          <a:solidFill>
            <a:srgbClr val="ccffcc">
              <a:alpha val="73000"/>
            </a:srgbClr>
          </a:solidFill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大漠孤烟直，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长河落日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78400" y="936720"/>
            <a:ext cx="42703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广阔无垠的大漠上</a:t>
            </a:r>
            <a:r>
              <a:rPr b="1" lang="zh-CN" sz="3400" spc="-1" strike="noStrike">
                <a:solidFill>
                  <a:srgbClr val="333399"/>
                </a:solidFill>
                <a:latin typeface="黑体"/>
                <a:ea typeface="黑体"/>
              </a:rPr>
              <a:t>，黄沙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漫漫，沙漠上升起一缕</a:t>
            </a:r>
            <a:r>
              <a:rPr b="1" lang="zh-CN" sz="3400" spc="-1" strike="noStrike">
                <a:solidFill>
                  <a:srgbClr val="333399"/>
                </a:solidFill>
                <a:latin typeface="黑体"/>
                <a:ea typeface="黑体"/>
              </a:rPr>
              <a:t>白色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的烽烟，直上高空；黄昏</a:t>
            </a:r>
            <a:r>
              <a:rPr b="1" lang="zh-CN" sz="3400" spc="-1" strike="noStrike">
                <a:solidFill>
                  <a:srgbClr val="333399"/>
                </a:solidFill>
                <a:latin typeface="黑体"/>
                <a:ea typeface="黑体"/>
              </a:rPr>
              <a:t>橘红色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的夕阳，静静居于天际，辉映着波澜不惊的黄河之水。</a:t>
            </a: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奇特壮美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的边塞风光如在目前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黑体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50040" y="0"/>
            <a:ext cx="239868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7600" spc="-1" strike="noStrike">
                <a:solidFill>
                  <a:srgbClr val="000099"/>
                </a:solidFill>
                <a:latin typeface="Arial"/>
                <a:ea typeface="华文新魏"/>
              </a:rPr>
              <a:t>尾联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720720"/>
            <a:ext cx="93614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华文新魏"/>
                <a:ea typeface="华文新魏"/>
              </a:rPr>
              <a:t>萧关逢候骑，都护在燕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2017800"/>
            <a:ext cx="4822560" cy="34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到边关看见骑兵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骑兵说将领还在前线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(</a:t>
            </a:r>
            <a:r>
              <a:rPr b="1" lang="zh-CN" sz="4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写诗人到达边塞所见情景</a:t>
            </a:r>
            <a:r>
              <a:rPr b="1" lang="zh-CN" sz="4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32360" y="302436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0360" y="217440"/>
            <a:ext cx="597708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《红楼梦》第四十八回，对于“大漠孤烟直，长河落日圆”，香菱说：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这‘直’字似无理，‘圆’字似太俗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。合上书一想，倒像是见了这景的。若说再找两个换这两个，竟再找不出两个字来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696000" y="431640"/>
            <a:ext cx="19033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赏析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9640" y="2592360"/>
            <a:ext cx="3529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1640" y="863640"/>
            <a:ext cx="871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一个“圆”字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“直”字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的逼真传神。“直”字使“孤烟”显得</a:t>
            </a:r>
            <a:r>
              <a:rPr b="1" lang="zh-CN" sz="4200" spc="-1" strike="noStrike">
                <a:solidFill>
                  <a:srgbClr val="ff3399"/>
                </a:solidFill>
                <a:latin typeface="黑体"/>
                <a:ea typeface="黑体"/>
              </a:rPr>
              <a:t>单纯简净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“圆”字使苍茫的落日给人</a:t>
            </a:r>
            <a:r>
              <a:rPr b="1" lang="zh-CN" sz="4200" spc="-1" strike="noStrike">
                <a:solidFill>
                  <a:srgbClr val="ff3399"/>
                </a:solidFill>
                <a:latin typeface="黑体"/>
                <a:ea typeface="黑体"/>
              </a:rPr>
              <a:t>亲切温暖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感受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两句传神地刻画了</a:t>
            </a:r>
            <a:r>
              <a:rPr b="1" lang="zh-CN" sz="4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奇特壮 美</a:t>
            </a: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塞外风光，体现了王维“诗中有画”的特点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9880" y="500040"/>
            <a:ext cx="8508960" cy="6351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93560" y="500040"/>
            <a:ext cx="463572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归园田居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(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其三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)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" name=""/>
          <p:cNvSpPr/>
          <p:nvPr/>
        </p:nvSpPr>
        <p:spPr>
          <a:xfrm>
            <a:off x="1481040" y="3675240"/>
            <a:ext cx="288792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9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陶渊明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0360" y="217440"/>
            <a:ext cx="8712360" cy="2694240"/>
          </a:xfrm>
          <a:prstGeom prst="rect">
            <a:avLst/>
          </a:prstGeom>
          <a:solidFill>
            <a:srgbClr val="ff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3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6300" spc="-1" strike="noStrike">
                <a:solidFill>
                  <a:srgbClr val="ff0000"/>
                </a:solidFill>
                <a:latin typeface="Arial"/>
                <a:ea typeface="华文新魏"/>
              </a:rPr>
              <a:t>大漠孤烟直，长河落日圆</a:t>
            </a:r>
            <a:r>
              <a:rPr b="1" lang="zh-CN" sz="6300" spc="-1" strike="noStrike">
                <a:solidFill>
                  <a:srgbClr val="0000cc"/>
                </a:solidFill>
                <a:latin typeface="Arial"/>
                <a:ea typeface="华文新魏"/>
              </a:rPr>
              <a:t>”赏析其“</a:t>
            </a:r>
            <a:r>
              <a:rPr b="1" lang="zh-CN" sz="6300" spc="-1" strike="noStrike">
                <a:solidFill>
                  <a:srgbClr val="ff0000"/>
                </a:solidFill>
                <a:latin typeface="Arial"/>
                <a:ea typeface="华文新魏"/>
              </a:rPr>
              <a:t>诗中有画</a:t>
            </a:r>
            <a:r>
              <a:rPr b="0" lang="zh-CN" sz="6300" spc="-1" strike="noStrike">
                <a:solidFill>
                  <a:srgbClr val="ff0000"/>
                </a:solidFill>
                <a:latin typeface="Arial"/>
                <a:ea typeface="华文新魏"/>
              </a:rPr>
              <a:t>”</a:t>
            </a:r>
            <a:r>
              <a:rPr b="1" lang="zh-CN" sz="6300" spc="-1" strike="noStrike">
                <a:solidFill>
                  <a:srgbClr val="0000cc"/>
                </a:solidFill>
                <a:latin typeface="Arial"/>
                <a:ea typeface="华文新魏"/>
              </a:rPr>
              <a:t>的特点。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华文新魏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96000" y="3960720"/>
            <a:ext cx="4752720" cy="3240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24000" y="4105440"/>
            <a:ext cx="190332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赏析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15640" y="1728720"/>
            <a:ext cx="8683560" cy="15112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lnSpc>
                <a:spcPct val="11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首先，它有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画一样的构图。</a:t>
            </a:r>
            <a:r>
              <a:rPr b="1" lang="zh-CN" sz="3800" spc="-1" strike="noStrike">
                <a:solidFill>
                  <a:srgbClr val="0033cc"/>
                </a:solidFill>
                <a:latin typeface="黑体"/>
                <a:ea typeface="黑体"/>
              </a:rPr>
              <a:t>景物虽不多，但是空间阔大，层次很丰富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1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93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93672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充分体现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诗中有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的特点，具有图画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95640"/>
            <a:ext cx="964872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>
              <a:spcBef>
                <a:spcPts val="8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其次</a:t>
            </a: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，它有画一样讲究的线条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400" spc="-1" strike="noStrike">
                <a:solidFill>
                  <a:srgbClr val="0033cc"/>
                </a:solidFill>
                <a:latin typeface="黑体"/>
                <a:ea typeface="黑体"/>
              </a:rPr>
              <a:t>纵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的是烟，</a:t>
            </a:r>
            <a:r>
              <a:rPr b="1" lang="zh-CN" sz="3400" spc="-1" strike="noStrike">
                <a:solidFill>
                  <a:srgbClr val="0033cc"/>
                </a:solidFill>
                <a:latin typeface="黑体"/>
                <a:ea typeface="黑体"/>
              </a:rPr>
              <a:t>横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的是河，</a:t>
            </a:r>
            <a:r>
              <a:rPr b="1" lang="zh-CN" sz="3400" spc="-1" strike="noStrike">
                <a:solidFill>
                  <a:srgbClr val="0033cc"/>
                </a:solidFill>
                <a:latin typeface="黑体"/>
                <a:ea typeface="黑体"/>
              </a:rPr>
              <a:t>圆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的是落日，线条简约优美。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第三，</a:t>
            </a: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色彩丰富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400" spc="-1" strike="noStrike">
                <a:solidFill>
                  <a:srgbClr val="333399"/>
                </a:solidFill>
                <a:latin typeface="黑体"/>
                <a:ea typeface="黑体"/>
              </a:rPr>
              <a:t>黄沙、红日 、</a:t>
            </a:r>
            <a:r>
              <a:rPr b="1" lang="zh-CN" sz="3400" spc="-1" strike="noStrike">
                <a:solidFill>
                  <a:srgbClr val="000099"/>
                </a:solidFill>
                <a:latin typeface="黑体"/>
                <a:ea typeface="黑体"/>
              </a:rPr>
              <a:t>白烟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，对比鲜明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647640"/>
            <a:ext cx="9145440" cy="1488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新魏"/>
              </a:rPr>
              <a:t>这首诗流露了诗人怎样的情感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2447640"/>
            <a:ext cx="8683560" cy="3529080"/>
          </a:xfrm>
          <a:prstGeom prst="rect">
            <a:avLst/>
          </a:prstGeom>
          <a:solidFill>
            <a:srgbClr val="ffff99">
              <a:alpha val="78000"/>
            </a:srgbClr>
          </a:solidFill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-360360">
              <a:lnSpc>
                <a:spcPct val="90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  <a:ea typeface="华文新魏"/>
              </a:rPr>
              <a:t>本诗描绘了塞外奇特壮丽的景象，表达了诗人漂泊天涯的悲壮与孤独情怀。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720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557360" y="1104840"/>
            <a:ext cx="676260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渡荆门送别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9" name=""/>
          <p:cNvSpPr/>
          <p:nvPr/>
        </p:nvSpPr>
        <p:spPr>
          <a:xfrm>
            <a:off x="5806080" y="3456000"/>
            <a:ext cx="21589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新魏"/>
              </a:rPr>
              <a:t>唐   李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824360" y="198360"/>
            <a:ext cx="455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新魏"/>
              </a:rPr>
              <a:t>李白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（７０１－７６２），字太白，号</a:t>
            </a:r>
            <a:r>
              <a:rPr b="1" lang="zh-CN" sz="3800" spc="-1" strike="noStrike">
                <a:solidFill>
                  <a:srgbClr val="ff0066"/>
                </a:solidFill>
                <a:latin typeface="Arial"/>
                <a:ea typeface="华文新魏"/>
              </a:rPr>
              <a:t>青莲居士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,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是中国文学史上最伟大的诗人之一，与杜甫并称“李杜”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他的诗雄壮豪迈，气势磅礴，充满浪漫主义的想象和夸张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6000" y="2160720"/>
            <a:ext cx="3960720" cy="467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31640" y="504720"/>
            <a:ext cx="3672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7257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089080" y="727200"/>
            <a:ext cx="706752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8400" spc="-1" strike="noStrike">
                <a:solidFill>
                  <a:srgbClr val="6666ff"/>
                </a:solidFill>
                <a:latin typeface="Arial"/>
                <a:ea typeface="隶书"/>
              </a:rPr>
              <a:t>渡荆门送别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560" y="2314440"/>
            <a:ext cx="8737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渡远荆门外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来从楚国游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随平野尽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入大荒流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下飞天镜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云生结海楼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仍怜故乡水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里送行舟</a:t>
            </a:r>
            <a:r>
              <a:rPr b="1" lang="zh-CN" sz="51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77600" y="0"/>
            <a:ext cx="2524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t">
            <a:spAutoFit/>
          </a:bodyPr>
          <a:p>
            <a:pPr>
              <a:spcBef>
                <a:spcPts val="318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5100" spc="-1" strike="noStrike">
                <a:solidFill>
                  <a:srgbClr val="6666ff"/>
                </a:solidFill>
                <a:latin typeface="Arial"/>
                <a:ea typeface="华文新魏"/>
              </a:rPr>
              <a:t>介绍创作情况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640" y="720720"/>
            <a:ext cx="820728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李白青少年时期是在蜀中度过的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蜀地当作自己的故乡</a:t>
            </a: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他有不少诗篇反映出对蜀中生活的怀念之情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1640" y="3672000"/>
            <a:ext cx="516708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一次从三峡出蜀，面对江汉平原，眼界大开，心旷神怡</a:t>
            </a: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由得即景抒情，写下了这首广为传诵的</a:t>
            </a:r>
            <a:r>
              <a:rPr b="1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五言律诗</a:t>
            </a:r>
            <a:r>
              <a:rPr b="1" lang="zh-CN" sz="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735280"/>
            <a:ext cx="4032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64872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7600" spc="-1" strike="noStrike">
                <a:solidFill>
                  <a:srgbClr val="0000cc"/>
                </a:solidFill>
                <a:latin typeface="Arial"/>
                <a:ea typeface="华文中宋"/>
              </a:rPr>
              <a:t>首联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600" spc="-1" strike="noStrike">
                <a:solidFill>
                  <a:srgbClr val="990033"/>
                </a:solidFill>
                <a:latin typeface="华文细黑"/>
                <a:ea typeface="华文细黑"/>
              </a:rPr>
              <a:t>  </a:t>
            </a:r>
            <a:r>
              <a:rPr b="1" lang="zh-CN" sz="6000" spc="-1" strike="noStrike">
                <a:solidFill>
                  <a:srgbClr val="ff3399"/>
                </a:solidFill>
                <a:latin typeface="华文细黑"/>
                <a:ea typeface="华文细黑"/>
              </a:rPr>
              <a:t>渡远荆门外</a:t>
            </a:r>
            <a:r>
              <a:rPr b="1" lang="zh-CN" sz="6000" spc="-1" strike="noStrike">
                <a:solidFill>
                  <a:srgbClr val="ff3399"/>
                </a:solidFill>
                <a:latin typeface="华文细黑"/>
                <a:ea typeface="华文细黑"/>
              </a:rPr>
              <a:t>,</a:t>
            </a:r>
            <a:r>
              <a:rPr b="1" lang="zh-CN" sz="6000" spc="-1" strike="noStrike">
                <a:solidFill>
                  <a:srgbClr val="ff3399"/>
                </a:solidFill>
                <a:latin typeface="华文细黑"/>
                <a:ea typeface="华文细黑"/>
              </a:rPr>
              <a:t>来从楚国游</a:t>
            </a:r>
            <a:r>
              <a:rPr b="1" lang="zh-CN" sz="6000" spc="-1" strike="noStrike">
                <a:solidFill>
                  <a:srgbClr val="ff3399"/>
                </a:solidFill>
                <a:latin typeface="华文细黑"/>
                <a:ea typeface="华文细黑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32000"/>
            <a:ext cx="9648720" cy="496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6000" y="2879640"/>
            <a:ext cx="943272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华文中宋"/>
              </a:rPr>
              <a:t>诗人远离四川，乘船沿江游览楚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华文中宋"/>
              </a:rPr>
              <a:t>                           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华文中宋"/>
              </a:rPr>
              <a:t>(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华文中宋"/>
              </a:rPr>
              <a:t>叙送别缘起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华文中宋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64872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7600" spc="-1" strike="noStrike">
                <a:solidFill>
                  <a:srgbClr val="ff0000"/>
                </a:solidFill>
                <a:latin typeface="Arial"/>
                <a:ea typeface="隶书"/>
              </a:rPr>
              <a:t>颔联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山随平野尽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江入大荒流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448000"/>
            <a:ext cx="9648720" cy="4753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84280" y="4608360"/>
            <a:ext cx="5429160" cy="183168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800" spc="-1" strike="noStrike">
                <a:solidFill>
                  <a:srgbClr val="ff0066"/>
                </a:solidFill>
                <a:latin typeface="黑体"/>
                <a:ea typeface="黑体"/>
              </a:rPr>
              <a:t>描绘长江之水出山之后的壮阔气象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ff0066"/>
                </a:solidFill>
                <a:latin typeface="黑体"/>
                <a:ea typeface="黑体"/>
              </a:rPr>
              <a:t>长江出山，水面宽广，景象雄奇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ff0066"/>
                </a:solidFill>
                <a:latin typeface="黑体"/>
                <a:ea typeface="黑体"/>
              </a:rPr>
              <a:t>使人顿感前程开阔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82400" y="1679040"/>
            <a:ext cx="8683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9648720" cy="5472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2447640"/>
            <a:ext cx="9648720" cy="3313080"/>
          </a:xfrm>
          <a:prstGeom prst="rect">
            <a:avLst/>
          </a:prstGeom>
          <a:solidFill>
            <a:srgbClr val="ffff99">
              <a:alpha val="67000"/>
            </a:srgbClr>
          </a:solidFill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用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游动的视觉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写景物的变化，从蜀地到荆门，两岸的地势由山脉过渡到平原，山峦从诗人的视野中渐渐消失，江水向着广阔的田野奔腾而去。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流露出诗人激动、喜悦的心情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6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方正舒体"/>
              </a:rPr>
              <a:t>写景最壮丽的是哪两句？试做赏析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9000" y="349200"/>
            <a:ext cx="3882960" cy="64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60720" y="0"/>
            <a:ext cx="5472360" cy="69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200" spc="-1" strike="noStrike">
                <a:solidFill>
                  <a:srgbClr val="ff0066"/>
                </a:solidFill>
                <a:latin typeface="黑体"/>
                <a:ea typeface="黑体"/>
              </a:rPr>
              <a:t>陶渊明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约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5—427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又名</a:t>
            </a:r>
            <a:r>
              <a:rPr b="1" lang="zh-CN" sz="29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潜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字</a:t>
            </a:r>
            <a:r>
              <a:rPr b="1" lang="zh-CN" sz="29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元亮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浔阳柴桑（今江西九江）人，</a:t>
            </a:r>
            <a:r>
              <a:rPr b="1" lang="zh-CN" sz="29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东晋著名诗人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世称靖节先生，因宅边曾有五棵柳树，又自号</a:t>
            </a: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五柳先生”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田园诗的开创者，他的田园诗，感情真挚、朴素自然，直接影响到唐代的田园诗派。他也被认为是汉魏南北朝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间最杰出的诗人之一。他还是著名的</a:t>
            </a:r>
            <a:r>
              <a:rPr b="1" lang="zh-CN" sz="29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散文家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著名的散文有《桃花源记》、《五柳先生传》等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楷体_GB2312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9648720" cy="5040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648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7600" spc="-1" strike="noStrike">
                <a:solidFill>
                  <a:srgbClr val="ff0000"/>
                </a:solidFill>
                <a:latin typeface="Arial"/>
                <a:ea typeface="华文隶书"/>
              </a:rPr>
              <a:t>颈联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月下飞天镜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云生结海楼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600" spc="-1" strike="noStrike">
                <a:solidFill>
                  <a:srgbClr val="0033cc"/>
                </a:solidFill>
                <a:latin typeface="黑体"/>
                <a:ea typeface="黑体"/>
              </a:rPr>
              <a:t>水中映月图、天边云霞图</a:t>
            </a:r>
            <a:r>
              <a:rPr b="1" lang="zh-CN" sz="46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5040360"/>
            <a:ext cx="9096480" cy="673200"/>
          </a:xfrm>
          <a:prstGeom prst="rect">
            <a:avLst/>
          </a:prstGeom>
          <a:solidFill>
            <a:srgbClr val="99cc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黑体"/>
                <a:ea typeface="黑体"/>
              </a:rPr>
              <a:t>夜晚，明月映入水中，有如天上飞下的一面明镜；早晨，朝云簇生，有如海市蜃楼般变幻多姿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64872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zh-CN" sz="7600" spc="-1" strike="noStrike">
                <a:solidFill>
                  <a:srgbClr val="0000ff"/>
                </a:solidFill>
                <a:latin typeface="Arial"/>
                <a:ea typeface="华文新魏"/>
              </a:rPr>
              <a:t>尾联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600" spc="-1" strike="noStrike">
                <a:solidFill>
                  <a:srgbClr val="008080"/>
                </a:solidFill>
                <a:latin typeface="华文新魏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ff3399"/>
                </a:solidFill>
                <a:latin typeface="华文新魏"/>
                <a:ea typeface="华文新魏"/>
              </a:rPr>
              <a:t>仍怜故乡水</a:t>
            </a:r>
            <a:r>
              <a:rPr b="1" lang="zh-CN" sz="6000" spc="-1" strike="noStrike">
                <a:solidFill>
                  <a:srgbClr val="ff3399"/>
                </a:solidFill>
                <a:latin typeface="华文新魏"/>
                <a:ea typeface="华文新魏"/>
              </a:rPr>
              <a:t>,</a:t>
            </a:r>
            <a:r>
              <a:rPr b="1" lang="zh-CN" sz="6000" spc="-1" strike="noStrike">
                <a:solidFill>
                  <a:srgbClr val="ff3399"/>
                </a:solidFill>
                <a:latin typeface="华文新魏"/>
                <a:ea typeface="华文新魏"/>
              </a:rPr>
              <a:t>万里送行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28760" y="1862280"/>
            <a:ext cx="721980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600" spc="-1" strike="noStrike">
                <a:solidFill>
                  <a:srgbClr val="006666"/>
                </a:solidFill>
                <a:latin typeface="华文新魏"/>
                <a:ea typeface="华文新魏"/>
              </a:rPr>
              <a:t>(</a:t>
            </a:r>
            <a:r>
              <a:rPr b="1" lang="zh-CN" sz="4600" spc="-1" strike="noStrike">
                <a:solidFill>
                  <a:srgbClr val="006666"/>
                </a:solidFill>
                <a:latin typeface="华文新魏"/>
                <a:ea typeface="华文新魏"/>
              </a:rPr>
              <a:t>抒含蓄思乡之情</a:t>
            </a:r>
            <a:r>
              <a:rPr b="1" lang="zh-CN" sz="4600" spc="-1" strike="noStrike">
                <a:solidFill>
                  <a:srgbClr val="006666"/>
                </a:solidFill>
                <a:latin typeface="华文新魏"/>
                <a:ea typeface="华文新魏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736720"/>
            <a:ext cx="9648720" cy="4464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47640" y="3024360"/>
            <a:ext cx="8683560" cy="2857320"/>
          </a:xfrm>
          <a:prstGeom prst="rect">
            <a:avLst/>
          </a:prstGeom>
          <a:solidFill>
            <a:srgbClr val="ffff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长江是故乡的水啊，所以它才不远万里把我送到江汉平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表现了初离蜀地的诗人对家乡的深深依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832360" y="0"/>
            <a:ext cx="259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拟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64360" y="2087640"/>
            <a:ext cx="28065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99cc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主旨句</a:t>
            </a:r>
            <a:endParaRPr b="1" lang="en-US" sz="1800" spc="1" strike="noStrike">
              <a:ln w="12600">
                <a:solidFill>
                  <a:srgbClr val="ff99cc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87280"/>
            <a:ext cx="9648720" cy="18734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方正舒体"/>
              </a:rPr>
              <a:t>全诗流露了诗人怎样的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方正舒体"/>
              </a:rPr>
              <a:t>情感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37080" y="2305080"/>
            <a:ext cx="511164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6000" y="24480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通过写途中所见的美好景观，流露出诗人初离蜀地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激动、欣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感情，并由此引发他离别故乡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思念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14680"/>
            <a:ext cx="964872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64960" y="1257480"/>
            <a:ext cx="5926320" cy="24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登岳阳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4" name=""/>
          <p:cNvSpPr/>
          <p:nvPr/>
        </p:nvSpPr>
        <p:spPr>
          <a:xfrm>
            <a:off x="6188760" y="3456000"/>
            <a:ext cx="2630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作者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5100" spc="-1" strike="noStrike">
                <a:solidFill>
                  <a:srgbClr val="000000"/>
                </a:solidFill>
                <a:latin typeface="黑体"/>
                <a:ea typeface="黑体"/>
              </a:rPr>
              <a:t>陈与义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陈与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11640" y="1297080"/>
            <a:ext cx="5997600" cy="4752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陈与义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(1090-1138)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字去非，号简斋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宋代诗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陈与义在北宋做过地方府学教授、太学博士，在南宋是朝廷重臣，又是一位爱国诗人，其主要贡献还是在诗歌方面，给后世留下不少忧国忧民的爱国诗篇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944720"/>
            <a:ext cx="352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416720" cy="12002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诗歌创作：两个时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000" y="647280"/>
            <a:ext cx="8712360" cy="4032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前期：内容上——个人生活情趣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风格——词句明净，诗风明快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后期：内容——把自己的遭遇和国家的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运融合在一起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感时伤事。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风格——沉郁悲壮，雄阔慷慨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92720" y="4537080"/>
            <a:ext cx="3456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方正舒体"/>
              </a:rPr>
              <a:t>登岳阳楼</a:t>
            </a: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3280" y="1297080"/>
            <a:ext cx="8713800" cy="5116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800000"/>
            <a:ext cx="9648720" cy="3289320"/>
          </a:xfrm>
          <a:prstGeom prst="rect">
            <a:avLst/>
          </a:prstGeom>
          <a:solidFill>
            <a:srgbClr val="ccffff">
              <a:alpha val="88000"/>
            </a:srgbClr>
          </a:solidFill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-360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方正舒体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洞庭之东江水西，帘旌不动夕阳迟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方正舒体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登临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方正舒体"/>
                <a:ea typeface="方正舒体"/>
                <a:hlinkClick r:id="rId2"/>
              </a:rPr>
              <a:t>吴蜀</a:t>
            </a: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横分地，徙倚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方正舒体"/>
                <a:ea typeface="方正舒体"/>
                <a:hlinkClick r:id="rId3"/>
              </a:rPr>
              <a:t>湖山</a:t>
            </a: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欲暮时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方正舒体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万里来游还望远，三年多难更凭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方正舒体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白头吊古风霜里，老木苍波无限悲。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03280" y="216000"/>
            <a:ext cx="7416720" cy="20160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 fontScale="95000"/>
          </a:bodyPr>
          <a:p>
            <a:pPr marL="342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洞庭之东江水西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2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帘旌不动夕阳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2448000"/>
            <a:ext cx="964872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7280" y="2664000"/>
            <a:ext cx="9074160" cy="4249440"/>
          </a:xfrm>
          <a:prstGeom prst="rect">
            <a:avLst/>
          </a:prstGeom>
          <a:solidFill>
            <a:srgbClr val="ffff9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>
              <a:spcBef>
                <a:spcPts val="726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巍巍的岳阳楼矗立在洞庭之东长江之西，夕阳黄昏，没有晚风卷起，楼阁上的旌旗静止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26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26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　　岳阳楼，</a:t>
            </a:r>
            <a:r>
              <a:rPr b="0" lang="zh-CN" sz="2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湖南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岳阳西门城楼，在长江南岸，濒临洞庭湖。始建於唐代，为江南三大名楼之一。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26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　　①〔帘旌〕酒店或茶馆的幌子。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726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　　②〔夕阳迟〕夕阳缓慢地下沉。迟，缓慢。</a:t>
            </a: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3600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岳阳楼的地理位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登临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吴蜀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横分地，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徙倚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湖山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欲暮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1649520"/>
            <a:ext cx="9648720" cy="58388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2087640"/>
            <a:ext cx="8683560" cy="4752720"/>
          </a:xfrm>
          <a:prstGeom prst="rect">
            <a:avLst/>
          </a:prstGeom>
          <a:solidFill>
            <a:srgbClr val="bbe0e3">
              <a:alpha val="73000"/>
            </a:srgbClr>
          </a:solidFill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〔吴蜀横分地〕三国时吴国和蜀国争夺</a:t>
            </a:r>
            <a:r>
              <a:rPr b="0" lang="zh-CN" sz="3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荆州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吴将</a:t>
            </a:r>
            <a:r>
              <a:rPr b="0" lang="zh-CN" sz="3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鲁肃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曾率兵万人驻扎在岳阳。横分，这里指瓜分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〔徙倚〕徘徊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我登临的地方，让</a:t>
            </a:r>
            <a:r>
              <a:rPr b="0" lang="zh-CN" sz="3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吴国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蜀国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在这里分开。我徘徊的时刻，洞庭湖与群山笼罩在暮霭里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里来游还望远，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年多难更凭危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655640"/>
            <a:ext cx="9648720" cy="5545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8683560" cy="4008600"/>
          </a:xfrm>
          <a:prstGeom prst="rect">
            <a:avLst/>
          </a:prstGeom>
          <a:solidFill>
            <a:srgbClr val="ffff99">
              <a:alpha val="74000"/>
            </a:srgbClr>
          </a:solidFill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〔三年多难〕宋钦宗靖康元年（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126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）春天北宋灭亡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到写此诗时已有三年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10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〔凭危〕指登楼。凭，靠着。危，指高处。         </a:t>
            </a:r>
            <a:r>
              <a:rPr b="1" lang="zh-CN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避战乱我奔波三年，行程万里，今日登高远望是什么心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3280" y="5472000"/>
            <a:ext cx="8713800" cy="144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以近于直呼的方式，道出了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亡国之臣的愤懑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7201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280" y="1368360"/>
            <a:ext cx="7272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Arial"/>
                <a:ea typeface="华文新魏"/>
              </a:rPr>
              <a:t>	</a:t>
            </a:r>
            <a:r>
              <a:rPr b="1" lang="zh-CN" sz="3800" spc="-1" strike="noStrike">
                <a:solidFill>
                  <a:srgbClr val="0000cc"/>
                </a:solidFill>
                <a:latin typeface="Arial"/>
                <a:ea typeface="华文新魏"/>
              </a:rPr>
              <a:t>陶渊明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少时颇有壮志，博学能文，任性不羁。当时社会动乱不安，他有志不得展。他做过小官，由于不满官场的丑恶，弃官回乡，这时他四十一岁，从此过着“躬耕自资”的隐居生活。忧愤、饥寒、劳累、疾病一起折磨着他，六十三岁去世。后称靖节先生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32720" y="287280"/>
            <a:ext cx="1224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景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资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料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6360" y="504360"/>
            <a:ext cx="8518320" cy="1776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白头吊古风霜里，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木苍波无限悲。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900080"/>
            <a:ext cx="9648720" cy="5301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1640" y="1728360"/>
            <a:ext cx="8683920" cy="237492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新魏"/>
              </a:rPr>
              <a:t>登楼凭吊古人，我自己已是两鬓如霜，看着远山的古树，青苍中，隐含无限的伤悲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4105440"/>
            <a:ext cx="8683920" cy="237456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/>
          </a:bodyPr>
          <a:p>
            <a:pPr marL="360360" indent="-360360">
              <a:spcBef>
                <a:spcPts val="110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诗人顾影自怜，以无限悲凉的身世之慨收束全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这首诗的感情基调是？表达了诗人怎样的思想感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8683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spcBef>
                <a:spcPts val="180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99"/>
                </a:solidFill>
                <a:latin typeface="Arial"/>
                <a:ea typeface="华文彩云"/>
              </a:rPr>
              <a:t>感情基调</a:t>
            </a:r>
            <a:r>
              <a:rPr b="0" lang="zh-CN" sz="34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方正舒体"/>
              </a:rPr>
              <a:t>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10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方正舒体"/>
              </a:rPr>
              <a:t>思想感情</a:t>
            </a:r>
            <a:r>
              <a:rPr b="1" lang="zh-CN" sz="7200" spc="-1" strike="noStrike">
                <a:solidFill>
                  <a:srgbClr val="cc0000"/>
                </a:solidFill>
                <a:latin typeface="Arial"/>
                <a:ea typeface="方正舒体"/>
              </a:rPr>
              <a:t>：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方正舒体"/>
              </a:rPr>
              <a:t>抒写了诗人的颠沛流离之苦，国家动荡之忧，以及老大伤悲的落寞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2400" y="1679040"/>
            <a:ext cx="868356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648720" cy="7177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944720" y="2160720"/>
            <a:ext cx="54720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方正舒体"/>
              </a:rPr>
              <a:t>再见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360" y="1582560"/>
            <a:ext cx="9288360" cy="4180680"/>
          </a:xfrm>
          <a:prstGeom prst="rect">
            <a:avLst/>
          </a:prstGeom>
          <a:solidFill>
            <a:srgbClr val="ffff99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Arial"/>
                <a:ea typeface="华文新魏"/>
              </a:rPr>
              <a:t>种豆／南山下，草盛／豆苗稀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Arial"/>
                <a:ea typeface="华文新魏"/>
              </a:rPr>
              <a:t>晨兴／理荒秽，带月／荷锄归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Arial"/>
                <a:ea typeface="华文新魏"/>
              </a:rPr>
              <a:t>道狭／草木长，夕露／沾我衣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Arial"/>
                <a:ea typeface="华文新魏"/>
              </a:rPr>
              <a:t>衣沾／不足惜，但使／愿无违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7360" y="349200"/>
            <a:ext cx="668808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5700" spc="-1" strike="noStrike">
                <a:solidFill>
                  <a:srgbClr val="0000ff"/>
                </a:solidFill>
                <a:latin typeface="Arial"/>
                <a:ea typeface="华文新魏"/>
              </a:rPr>
              <a:t>归园田居（其三）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2400" y="288720"/>
            <a:ext cx="8683560" cy="119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种豆</a:t>
            </a: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南山</a:t>
            </a: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下，草盛</a:t>
            </a: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豆苗</a:t>
            </a: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600" spc="-1" strike="noStrike">
                <a:solidFill>
                  <a:srgbClr val="cc3300"/>
                </a:solidFill>
                <a:latin typeface="Arial"/>
              </a:rPr>
              <a:t>稀。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06720" y="2304720"/>
            <a:ext cx="4841640" cy="3816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诗人在南山下种豆，因为不善劳作，豆田里长满了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大早就去锄草，到了月儿初升之时才扛着锄头晚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1640" y="2305080"/>
            <a:ext cx="4351320" cy="4408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36720" y="1152360"/>
            <a:ext cx="828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晨兴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理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荒秽，带月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荷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锄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04360"/>
            <a:ext cx="8663040" cy="14893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道狭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草木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长，夕露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沾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我衣。</a:t>
            </a:r>
            <a:br>
              <a:rPr sz="4000"/>
            </a:b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衣沾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不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足惜，但使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愿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无违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7280" y="2087640"/>
            <a:ext cx="4032360" cy="453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48000" y="1800000"/>
            <a:ext cx="4918320" cy="4632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spcBef>
                <a:spcPts val="9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归途中，道狭而多草木，以至露水沾湿了我的衣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沾湿衣又有什么关系呢？只要不违背自己的意愿就行了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726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5679360"/>
            <a:ext cx="8207280" cy="79776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spAutoFit/>
          </a:bodyPr>
          <a:p>
            <a:pPr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4600" spc="-1" strike="noStrike">
                <a:solidFill>
                  <a:srgbClr val="ff3399"/>
                </a:solidFill>
                <a:latin typeface="Arial"/>
                <a:ea typeface="华文新魏"/>
              </a:rPr>
              <a:t>诗歌的末句“但使愿无违”的“愿”具体指什么？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44360" y="2231640"/>
            <a:ext cx="5205600" cy="32893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spcBef>
                <a:spcPts val="825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按照自己的意愿生活，不想在污浊的现实世界中失去自我，即使做一个农夫也比在官场“为五斗米折腰”强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spcBef>
                <a:spcPts val="825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29080" y="0"/>
            <a:ext cx="4319640" cy="676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287280"/>
            <a:ext cx="5205240" cy="199224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200" spc="-1" strike="noStrike">
                <a:solidFill>
                  <a:srgbClr val="ff3399"/>
                </a:solidFill>
                <a:latin typeface="Arial"/>
                <a:ea typeface="华文新魏"/>
              </a:rPr>
              <a:t>诗歌的末句“但使愿无违”的“愿”具体指什么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7640" y="5329080"/>
            <a:ext cx="756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全诗流露出诗人怎样的情感？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82760" y="1679040"/>
            <a:ext cx="5565600" cy="4753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诗歌表现了诗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在劳动中淳朴直率的生活情态，反映了诗人</a:t>
            </a:r>
            <a:r>
              <a:rPr b="1" lang="zh-CN" sz="4800" spc="-1" strike="noStrike">
                <a:solidFill>
                  <a:srgbClr val="ff3399"/>
                </a:solidFill>
                <a:latin typeface="Arial"/>
                <a:ea typeface="隶书"/>
              </a:rPr>
              <a:t>保持自己清高操守、不与污浊世界同流合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的志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39000" y="1440000"/>
            <a:ext cx="360972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32:07Z</dcterms:created>
  <dc:creator>*</dc:creator>
  <dc:description/>
  <dc:language>en-US</dc:language>
  <cp:lastModifiedBy>自由之翼</cp:lastModifiedBy>
  <dcterms:modified xsi:type="dcterms:W3CDTF">2011-12-23T01:26:31Z</dcterms:modified>
  <cp:revision>91</cp:revision>
  <dc:subject/>
  <dc:title>幻灯片 1</dc:title>
</cp:coreProperties>
</file>